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59BB-8053-4338-886D-919A7792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5143-DB3D-4B0F-9EAC-B9B6B072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19A3-3082-4704-9EC0-E2F754A99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C5F-EB8D-4060-BB45-9CA1BB4A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E3AA-7571-4064-B3EC-A7AF09F2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FB2-22AC-4BA1-B84D-89F00347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80E-E411-494B-8E45-F582E8B1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9C82-83AF-4B50-9D2C-EA587CB0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BA4-3C8A-4A84-8768-2A8EC241D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023-6867-4737-8085-B7B7D038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3222-89B3-452B-A142-49963BB9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D40-2D33-4581-A8EC-947B7AA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4FB-37EA-45E5-8103-68A3F178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E9C-0A4D-4C3E-B87F-762D7E33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46C-24D8-4793-A2D4-CF33F845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974-B9D6-4BAF-A060-6D893EB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F88-C70B-4C81-BEF8-EF6E7398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8CD-6404-4A75-B7B1-E7C87450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D5C-0A87-4E89-B19E-BB83464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29D-44F5-4F87-9C5F-1E569555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3FF-6EC3-4B58-A514-63392C1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C9D-39C4-4E3D-B885-82D8CD9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C22-C199-4F05-A29F-EA8EC36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45B-5ADF-47C2-A974-D5F64DB4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tpwww.gsfc.nasa.gov/globe/pvg/highph2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highp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Quartz Sands"/>
          <p:cNvPicPr/>
          <p:nvPr/>
        </p:nvPicPr>
        <p:blipFill>
          <a:blip r:embed="rId3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rawing of relative particle size - 8.3 K"/>
          <p:cNvPicPr/>
          <p:nvPr/>
        </p:nvPicPr>
        <p:blipFill>
          <a:blip r:embed="rId4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infosys</cp:lastModifiedBy>
  <dcterms:modified xsi:type="dcterms:W3CDTF">2015-10-22T23:41:39Z</dcterms:modified>
  <cp:revision>29</cp:revision>
  <dc:subject/>
  <dc:title>Chapter 9 Succession and Restoration</dc:title>
</cp:coreProperties>
</file>